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C7-16A0-4086-BA69-C44AC9F8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187-3D1B-41DC-9BD9-E69E21B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D97-B956-4692-9D20-470EF797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83D-03B4-4106-8971-CBBE6E7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2C9-E776-40D8-9354-42D04E6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5AC-2A4C-4147-99F0-F4EDCE31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FA5-AC41-431B-B023-E333445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2DC-12F8-45FD-981E-75C3BC41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C55-0BAC-4322-BD64-FDEEEE5E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7D3-A7BD-42B7-9BB8-20E9306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89F-6853-4CD7-B023-D3C6C5B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D81-C9DA-4A0A-9323-DB809FA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BA01-5C06-41CA-8D88-90A1F229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89000"/>
            <a:ext cx="806616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RROTOA,ODOLA E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LKOAK.HERIOTZATI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ES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404640"/>
            <a:ext cx="89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zarpen eta halakoen ondorioz nora ihes egin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8920" y="549360"/>
            <a:ext cx="7056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GERRAR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RAZO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360" y="549360"/>
            <a:ext cx="472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k irabazi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549360"/>
            <a:ext cx="3676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raren ondorioa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68360" y="549360"/>
            <a:ext cx="4686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zuk borrokatu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00360" y="620640"/>
            <a:ext cx="4000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 da gerra zibil bat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549360"/>
            <a:ext cx="48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nbat iraun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360" y="476280"/>
            <a:ext cx="773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emakumeen papera gerra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5640" y="476280"/>
            <a:ext cx="79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lde bakoitzean zer alde politiko zeud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1Z</dcterms:created>
  <dc:creator>ik015111zz</dc:creator>
  <dc:description/>
  <dc:language>en-US</dc:language>
  <cp:lastModifiedBy>ik015111zz</cp:lastModifiedBy>
  <dcterms:modified xsi:type="dcterms:W3CDTF">2012-05-10T13:13:41Z</dcterms:modified>
  <cp:revision>2</cp:revision>
  <dc:subject/>
  <dc:title>Diapositiva 1</dc:title>
</cp:coreProperties>
</file>